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585-DAA4-413B-87B5-3F01766C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425-1031-487B-AD7C-74D790A8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821-F968-4ED4-98E0-47515C13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0B7-DF26-475D-9AA6-08DB9909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803-1DE9-486F-B0B3-24C9C5AE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329-DE9C-44F0-921E-35F324D6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E75-F349-4A53-90CA-020F89DE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5D7-254B-4C27-8C23-6558B71A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CD7-F2C0-4A07-A071-5123C778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AF8-D115-458A-BD7B-C7AE618C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B86-7ACC-4C59-8C06-2DFE38F5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0D4-7FBC-4CFA-96C5-28F6A805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F00A-0663-48DF-AECD-88BA27A37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8 Na Pána spolieham 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Pána spolieham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jeho lásku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v ňom je moj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svoju skrýš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nepokoj mnou zmi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v pomoc dúf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chráni svoje dieť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ie zahn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trasti t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Pastierom je moj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nemusím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stráži okom svoj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 stále pri mne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ier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, nádej strác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Ježiš o tom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uňho pomoc hľa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k sebe privin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 ňom mám zdroj vody živ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aj mannu, z neba chlieb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n v láske dobrotiv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a zbaví ťarchy b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esť náleží mu, vďa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smiem tu preňho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jeho príchod čak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 ním chcem raz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b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3:52:30Z</dcterms:modified>
  <cp:revision>22</cp:revision>
  <dc:subject/>
  <dc:title>Je veľký náš Pán, on slávy je Kráľ Nech do všetkých strán  spev vrúcnych znie chvál.</dc:title>
</cp:coreProperties>
</file>